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518-C841-42E8-B2F7-2053ECCF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53C-3835-4B30-B8BA-657C874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7EE-D437-4BB9-88CF-E886CAA2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C3B-4118-4C94-BFBA-1ABC2031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394-F523-4B79-BD4F-3E072133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053-F78D-4FFD-90C9-E6662349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D80-6899-4E7B-9CA5-E825E651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E72-EC74-48D9-9EF9-1AC8F4F2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990-3C74-4927-A0E6-E33D6DAC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51D-B854-4C22-870F-B1244FB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F44-3F44-4ECE-82E5-D040824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046-1175-496F-B93E-14912F5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46C3-94C3-4F79-9D1D-C5F062031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765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Black"/>
              </a:rPr>
              <a:t>Тема проекта:</a:t>
            </a:r>
            <a:r>
              <a:rPr b="1" lang="en-US" sz="2800" spc="-1" strike="noStrike">
                <a:solidFill>
                  <a:srgbClr val="8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360" y="1989000"/>
            <a:ext cx="7632720" cy="13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натные растения</a:t>
            </a:r>
            <a:endParaRPr b="1" i="1" lang="en-US" sz="4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92360" y="3429000"/>
            <a:ext cx="575928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уголке природы </a:t>
            </a:r>
            <a:endParaRPr b="1" i="1" lang="en-US" sz="4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602136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Сыктывкар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32000" y="26028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Творческая 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«Комнатные цветов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557360"/>
            <a:ext cx="8388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вторы проекта и индивидуальные тем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акова Я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Значение и многообразие комнатных растений в ДО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шкина Натал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Условия для жизни комнатных раст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ночкина Натал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Уход за комнатными растениями и из размнож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мидт А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Расположение и подбор комнатных растений в разных возрастных групп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манова Евг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Знакомство дошкольников с комнатными растени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620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Дидактические цел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484280"/>
            <a:ext cx="6048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компетентности специалистов в области экологического воспитания до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интереса к созданию условий для растений уголка природы в детском са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амостоятельности при поиске, обработке информации для раскрытия проблемы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2276640"/>
            <a:ext cx="129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76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Методические задач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558800"/>
            <a:ext cx="6594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я о растениях уголка природы в разных возрастных группах ДО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ь практическую значимость ознакомления дошкольников с комнатными растения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учить использовать собранную информацию по теме в работе с детьми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04000" y="3500280"/>
            <a:ext cx="172728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765000"/>
            <a:ext cx="691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о проекту были разработаны: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зен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укл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амятки для педагогов ДО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3025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18900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758880"/>
            <a:ext cx="82087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аймашова В.А., Охапкина Г.М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знакомление дошкольников с комнатными растениями. – М.: «Издательство Скрипторий 2003», 2008. – 7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ретенникова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знакомление дошкольников с природой: Учебник для учащихся пед. училищ. – 3-е изд., перераб. и доп. – М.: Просвещение, 1980. – 272 с., 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ронкевич О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о пожаловать в экологию! Перспективный план работы по формированию экологической культуры у детей дошкольного возраста. – СПб.: « ДЕТСТВО-ПРЕСС», 2006. – 496с.    + д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амашева Т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мнатные растения – спутники нашей жизни // Дошкольное воспитание. – 1996. - №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гурская 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логия малышам // Дошкольное воспитание. – 2004. - №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енина Т.Н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людения дошкольников за растениями и животными: Учебное пособие. Совместная работа воспитателя с детьми и их родителями. – М.: Педагогическое общество России, 2007. – 6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енина Т.Н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иклы наблюдений за объектами природы. Старший дошкольный возраст. Учебно-методическое пособие. - М.: Центр педагогического образования, 2008. – 9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ванова Е.А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мнатные растения в ДОУ // Дошкольная педагогика. – 2004. - №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ванова А.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Экологические наблюдения и эксперименты в детском саду. Мир растений. – М.: ТЦ Сфера, 2004. – 240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рковская М.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голок природы в детском саду: Кн. для воспитателя дет. сада. – М.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иколаева С.Н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тодика экологического воспитания дошкольников: Учеб. пособие для студ. сред. пед. учеб. заведений. – 3-е изд., перераб. - М.:Издательский центр «Академия», 2005. – 224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пекты занятий по формированию у дошкольников естественно-научных представлений в разных возрастных группах детского сада: Сост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ищева Н.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– СПб.: ДЕТСТВО-ПРЕСС, 2009. – 144 с 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ессайон Д.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се о комнатных растениях. М., 2005. - 254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4:40:13Z</dcterms:created>
  <dc:creator>UserXP</dc:creator>
  <dc:description/>
  <dc:language>en-US</dc:language>
  <cp:lastModifiedBy>студент</cp:lastModifiedBy>
  <dcterms:modified xsi:type="dcterms:W3CDTF">2010-06-07T07:47:26Z</dcterms:modified>
  <cp:revision>11</cp:revision>
  <dc:subject/>
  <dc:title>Слайд 1</dc:title>
</cp:coreProperties>
</file>